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34A90B6-CB27-4529-B4AB-03B6ECBE285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1DB95D8-832E-4AF8-B113-F55C3FC9B58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1"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C5AD998-8F50-474E-A0B7-47F1DFFA2C5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2"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586AD45-B2E3-420A-8210-14C1B65948A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5"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2CF7D2A-30D1-4C2D-9864-D6D7759F121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6"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7"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8F2993A-5F29-4F50-88E2-D85F77C43A4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9"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9515B4D-900E-46A1-BA4E-D7758665615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0"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EEC8574-D0E1-4B7E-BA84-A91D24AA7AD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79924DB-558E-46B4-B224-6C7D07B4242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6791733-8194-4741-8B92-E972EA04BE6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B0592F0-5A6B-4EBE-96E2-0070A9866BC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7C33EE-7222-47C4-856A-DA3F399579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0A6CB5-F9F8-4D5C-A853-CBD86368E2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46ED56-FE51-42B9-8620-941628DC05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B2242F-ED25-4D4C-B2A0-4DBF2597D7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BFB47-AE27-421F-86EA-9643462583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293E6-4A7A-459F-884F-CA3A797CB3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42098B-1547-44B0-A21B-7C6A9DAE23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1C7C19-4B77-4F6A-B52A-AD138BA410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C31D5F6-B182-4DB1-8E48-0C408F4148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CF3D4D-42C9-4331-965B-33F40CB532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559F6F-8840-48D4-B8AF-99346A21BB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1E3CC0-36C3-4D1C-8BBB-738EE669B0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B313D8-9F76-4EC9-BD41-C4D00399426C}"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hyperlink" Target="http://www.google.com/imgres?imgurl=http://3.bp.blogspot.com/_eFSK912j8Pc/SfRpEoAyV7I/AAAAAAAABIo/IfFUH_VHo80/s400/channing-tatum.jpg&amp;imgrefurl=http://jasonkanner.blogspot.com/2009/04/happy-birthday-lucas-kerr-and-channing.html&amp;usg=__mmGRWSZE39tMond-TjvjDdJO6xI=&amp;h=400&amp;w=300&amp;sz=15&amp;hl=en&amp;start=9&amp;itbs=1&amp;tbnid=KpWqn4Sn6EHt7M:&amp;tbnh=124&amp;tbnw=93&amp;prev=/images%3Fq%3Dchanning%2Btatum%26hl%3Den%26safe%3Dstrict%26gbv%3D2%26tbs%3Disch:1" TargetMode="External"/><Relationship Id="rId6" Type="http://schemas.openxmlformats.org/officeDocument/2006/relationships/image" Target="../media/image1.jpeg"/><Relationship Id="rId7" Type="http://schemas.openxmlformats.org/officeDocument/2006/relationships/hyperlink" Target="http://www.google.com/imgres?imgurl=http://www.mannythemovieguy.com/images/liam_hemsworth_thor.jpg&amp;imgrefurl=http://www.mannythemovieguy.com/index.php%3Fentry%3Dentry090317-170325&amp;usg=__yblGKycFOtdl6dAMXqRLIQ8R1n8=&amp;h=300&amp;w=240&amp;sz=8&amp;hl=en&amp;start=1&amp;itbs=1&amp;tbnid=aehF_GI7OJl3tM:&amp;tbnh=116&amp;tbnw=93&amp;prev=/images%3Fq%3Dliam%2Bhemsworth%26hl%3Den%26safe%3Dstrict%26gbv%3D2%26tbs%3Disch:1" TargetMode="External"/><Relationship Id="rId8" Type="http://schemas.openxmlformats.org/officeDocument/2006/relationships/image" Target="../media/image2.jpeg"/><Relationship Id="rId9" Type="http://schemas.openxmlformats.org/officeDocument/2006/relationships/hyperlink" Target="http://www.google.com/imgres?imgurl=http://alertnerd.com/blog/wp-content/uploads/2009/03/blakelively.jpg&amp;imgrefurl=http://www.alertnerd.com/%3Fp%3D1801&amp;usg=__gZI-jK6EBQb7AXg7LHIdHY4qSO4=&amp;h=400&amp;w=395&amp;sz=32&amp;hl=en&amp;start=5&amp;itbs=1&amp;tbnid=F3k0vO5IXN2QUM:&amp;tbnh=124&amp;tbnw=122&amp;prev=/images%3Fq%3Dblake%2Blively%26hl%3Den%26safe%3Dstrict%26gbv%3D2%26tbs%3Disch:1" TargetMode="External"/><Relationship Id="rId10" Type="http://schemas.openxmlformats.org/officeDocument/2006/relationships/image" Target="../media/image3.jpeg"/><Relationship Id="rId11" Type="http://schemas.openxmlformats.org/officeDocument/2006/relationships/hyperlink" Target="http://www.google.com/imgres?imgurl=http://alertnerd.com/blog/wp-content/uploads/2009/03/blakelively.jpg&amp;imgrefurl=http://www.alertnerd.com/%3Fp%3D1801&amp;usg=__gZI-jK6EBQb7AXg7LHIdHY4qSO4=&amp;h=400&amp;w=395&amp;sz=32&amp;hl=en&amp;start=5&amp;itbs=1&amp;tbnid=F3k0vO5IXN2QUM:&amp;tbnh=124&amp;tbnw=122&amp;prev=/images%3Fq%3Dblake%2Blively%26hl%3Den%26safe%3Dstrict%26gbv%3D2%26tbs%3Disch:1" TargetMode="External"/><Relationship Id="rId12" Type="http://schemas.openxmlformats.org/officeDocument/2006/relationships/image" Target="../media/image4.jpeg"/><Relationship Id="rId13" Type="http://schemas.openxmlformats.org/officeDocument/2006/relationships/hyperlink" Target="http://www.google.com/imgres?imgurl=http://www.mannythemovieguy.com/images/liam_hemsworth_thor.jpg&amp;imgrefurl=http://www.mannythemovieguy.com/index.php%3Fentry%3Dentry090317-170325&amp;usg=__yblGKycFOtdl6dAMXqRLIQ8R1n8=&amp;h=300&amp;w=240&amp;sz=8&amp;hl=en&amp;start=1&amp;itbs=1&amp;tbnid=aehF_GI7OJl3tM:&amp;tbnh=116&amp;tbnw=93&amp;prev=/images%3Fq%3Dliam%2Bhemsworth%26hl%3Den%26safe%3Dstrict%26gbv%3D2%26tbs%3Disch:1" TargetMode="External"/><Relationship Id="rId14" Type="http://schemas.openxmlformats.org/officeDocument/2006/relationships/image" Target="../media/image2.jpeg"/><Relationship Id="rId15" Type="http://schemas.openxmlformats.org/officeDocument/2006/relationships/hyperlink" Target="http://www.google.com/imgres?imgurl=http://alertnerd.com/blog/wp-content/uploads/2009/03/blakelively.jpg&amp;imgrefurl=http://www.alertnerd.com/%3Fp%3D1801&amp;usg=__gZI-jK6EBQb7AXg7LHIdHY4qSO4=&amp;h=400&amp;w=395&amp;sz=32&amp;hl=en&amp;start=5&amp;itbs=1&amp;tbnid=F3k0vO5IXN2QUM:&amp;tbnh=124&amp;tbnw=122&amp;prev=/images%3Fq%3Dblake%2Blively%26hl%3Den%26safe%3Dstrict%26gbv%3D2%26tbs%3Disch:1" TargetMode="External"/><Relationship Id="rId16" Type="http://schemas.openxmlformats.org/officeDocument/2006/relationships/image" Target="../media/image4.jpeg"/><Relationship Id="rId17" Type="http://schemas.openxmlformats.org/officeDocument/2006/relationships/hyperlink" Target="http://www.google.com/imgres?imgurl=http://images.pictureshunt.com/pics/c/celebrity_gerard_butler-4087.jpg&amp;imgrefurl=http://www.free-extras.com/images/celebrity_gerard_butler-4087.htm&amp;usg=__oBd1b-_OPj4Z5o15wWac22KpxSU=&amp;h=439&amp;w=300&amp;sz=25&amp;hl=en&amp;start=8&amp;itbs=1&amp;tbnid=chJjjCFu_LbNRM:&amp;tbnh=127&amp;tbnw=87&amp;prev=/images%3Fq%3Dgerard%2Bbutler%26hl%3Den%26safe%3Dstrict%26gbv%3D2%26tbs%3Disch:1" TargetMode="External"/><Relationship Id="rId18" Type="http://schemas.openxmlformats.org/officeDocument/2006/relationships/image" Target="../media/image5.jpeg"/><Relationship Id="rId19" Type="http://schemas.openxmlformats.org/officeDocument/2006/relationships/hyperlink" Target="http://www.google.com/imgres?imgurl=http://images.pictureshunt.com/pics/c/celebrity_gerard_butler-4087.jpg&amp;imgrefurl=http://www.free-extras.com/images/celebrity_gerard_butler-4087.htm&amp;usg=__oBd1b-_OPj4Z5o15wWac22KpxSU=&amp;h=439&amp;w=300&amp;sz=25&amp;hl=en&amp;start=8&amp;itbs=1&amp;tbnid=chJjjCFu_LbNRM:&amp;tbnh=127&amp;tbnw=87&amp;prev=/images%3Fq%3Dgerard%2Bbutler%26hl%3Den%26safe%3Dstrict%26gbv%3D2%26tbs%3Disch:1" TargetMode="External"/><Relationship Id="rId20" Type="http://schemas.openxmlformats.org/officeDocument/2006/relationships/image" Target="../media/image5.jpeg"/><Relationship Id="rId21" Type="http://schemas.openxmlformats.org/officeDocument/2006/relationships/hyperlink" Target="http://www.google.com/imgres?imgurl=http://www.mannythemovieguy.com/images/liam_hemsworth_thor.jpg&amp;imgrefurl=http://www.mannythemovieguy.com/index.php%3Fentry%3Dentry090317-170325&amp;usg=__yblGKycFOtdl6dAMXqRLIQ8R1n8=&amp;h=300&amp;w=240&amp;sz=8&amp;hl=en&amp;start=1&amp;itbs=1&amp;tbnid=aehF_GI7OJl3tM:&amp;tbnh=116&amp;tbnw=93&amp;prev=/images%3Fq%3Dliam%2Bhemsworth%26hl%3Den%26safe%3Dstrict%26gbv%3D2%26tbs%3Disch:1" TargetMode="External"/><Relationship Id="rId22" Type="http://schemas.openxmlformats.org/officeDocument/2006/relationships/image" Target="../media/image2.jpeg"/><Relationship Id="rId23" Type="http://schemas.openxmlformats.org/officeDocument/2006/relationships/hyperlink" Target="http://www.google.com/imgres?imgurl=http://alertnerd.com/blog/wp-content/uploads/2009/03/blakelively.jpg&amp;imgrefurl=http://www.alertnerd.com/%3Fp%3D1801&amp;usg=__gZI-jK6EBQb7AXg7LHIdHY4qSO4=&amp;h=400&amp;w=395&amp;sz=32&amp;hl=en&amp;start=5&amp;itbs=1&amp;tbnid=F3k0vO5IXN2QUM:&amp;tbnh=124&amp;tbnw=122&amp;prev=/images%3Fq%3Dblake%2Blively%26hl%3Den%26safe%3Dstrict%26gbv%3D2%26tbs%3Disch:1" TargetMode="External"/><Relationship Id="rId24" Type="http://schemas.openxmlformats.org/officeDocument/2006/relationships/image" Target="../media/image4.jpeg"/><Relationship Id="rId25" Type="http://schemas.openxmlformats.org/officeDocument/2006/relationships/hyperlink" Target="http://www.google.com/imgres?imgurl=http://alertnerd.com/blog/wp-content/uploads/2009/03/blakelively.jpg&amp;imgrefurl=http://www.alertnerd.com/%3Fp%3D1801&amp;usg=__gZI-jK6EBQb7AXg7LHIdHY4qSO4=&amp;h=400&amp;w=395&amp;sz=32&amp;hl=en&amp;start=5&amp;itbs=1&amp;tbnid=F3k0vO5IXN2QUM:&amp;tbnh=124&amp;tbnw=122&amp;prev=/images%3Fq%3Dblake%2Blively%26hl%3Den%26safe%3Dstrict%26gbv%3D2%26tbs%3Disch:1" TargetMode="External"/><Relationship Id="rId26" Type="http://schemas.openxmlformats.org/officeDocument/2006/relationships/image" Target="../media/image4.jpeg"/><Relationship Id="rId27" Type="http://schemas.openxmlformats.org/officeDocument/2006/relationships/hyperlink" Target="http://www.google.com/imgres?imgurl=http://www.thecinemasource.com/moviesdb/images/Ryan_Reynolds-1.jpg&amp;imgrefurl=http://www.thecinemasource.com/blog/%3Fs%3DRyan%2520Reynolds%26search_in%3Dtitles%26post_type%3Dinterview&amp;usg=__STLRFVFMxTs-dzv5_ssreCuDzGg=&amp;h=400&amp;w=300&amp;sz=45&amp;hl=en&amp;start=2&amp;itbs=1&amp;tbnid=h5kwPoPv0hjnUM:&amp;tbnh=124&amp;tbnw=93&amp;prev=/images%3Fq%3Dryan%2Breynolds%26hl%3Den%26safe%3Dstrict%26gbv%3D2%26tbs%3Disch:1" TargetMode="External"/><Relationship Id="rId28" Type="http://schemas.openxmlformats.org/officeDocument/2006/relationships/image" Target="../media/image6.jpeg"/><Relationship Id="rId29" Type="http://schemas.openxmlformats.org/officeDocument/2006/relationships/slideLayout" Target="../slideLayouts/slideLayout1.xml"/><Relationship Id="rId30"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hyperlink" Target="http://www.google.com/imgres?imgurl=http://www.watchgossipgirlshow.com/wp-content/uploads/2009/04/blake-lively-picture-4.jpg&amp;imgrefurl=http://www.watchgossipgirlshow.com/gossip-girl-info/gossip-girl-cast-crew/&amp;usg=__YUsPTD_byDqWl5gNdA4rllNtxy4=&amp;h=490&amp;w=376&amp;sz=48&amp;hl=en&amp;start=9&amp;itbs=1&amp;tbnid=YOz-xzbZtrQfRM:&amp;tbnh=130&amp;tbnw=100&amp;prev=/images%3Fq%3Dblake%2Blively%26hl%3Den%26safe%3Dstrict%26gbv%3D2%26tbs%3Disch:1" TargetMode="External"/><Relationship Id="rId8" Type="http://schemas.openxmlformats.org/officeDocument/2006/relationships/image" Target="../media/image7.jpeg"/><Relationship Id="rId9" Type="http://schemas.openxmlformats.org/officeDocument/2006/relationships/hyperlink" Target="http://www.google.com/imgres?imgurl=http://www.parentpreviews.com/legacy-pics/sisterhood_of_the_traveling_pants.jpg&amp;imgrefurl=http://www.parentpreviews.com/movie-reviews/sisterhood-of-the-traveling-pants/&amp;usg=__1gu1U4jYeG6PAzyz-QXi1hrlOKI=&amp;h=250&amp;w=300&amp;sz=108&amp;hl=en&amp;start=19&amp;itbs=1&amp;tbnid=KhnT0O7LT4NZgM:&amp;tbnh=97&amp;tbnw=116&amp;prev=/images%3Fq%3Dsisterhood%2Bof%2Btraveling%2Bpants%26hl%3Den%26safe%3Dstrict%26gbv%3D2%26tbs%3Disch:1" TargetMode="External"/><Relationship Id="rId10" Type="http://schemas.openxmlformats.org/officeDocument/2006/relationships/image" Target="../media/image8.jpeg"/><Relationship Id="rId11" Type="http://schemas.openxmlformats.org/officeDocument/2006/relationships/hyperlink" Target="http://www.google.com/imgres?imgurl=http://alertnerd.com/blog/wp-content/uploads/2009/03/blakelively.jpg&amp;imgrefurl=http://www.alertnerd.com/%3Fp%3D1801&amp;usg=__gZI-jK6EBQb7AXg7LHIdHY4qSO4=&amp;h=400&amp;w=395&amp;sz=32&amp;hl=en&amp;start=5&amp;itbs=1&amp;tbnid=F3k0vO5IXN2QUM:&amp;tbnh=124&amp;tbnw=122&amp;prev=/images%3Fq%3Dblake%2Blively%26hl%3Den%26safe%3Dstrict%26gbv%3D2%26tbs%3Disch:1" TargetMode="External"/><Relationship Id="rId12" Type="http://schemas.openxmlformats.org/officeDocument/2006/relationships/image" Target="../media/image3.jpeg"/><Relationship Id="rId13" Type="http://schemas.openxmlformats.org/officeDocument/2006/relationships/slideLayout" Target="../slideLayouts/slideLayout1.xml"/><Relationship Id="rId1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hyperlink" Target="http://www.google.com/imgres?imgurl=http://alertnerd.com/blog/wp-content/uploads/2009/03/blakelively.jpg&amp;imgrefurl=http://www.alertnerd.com/%3Fp%3D1801&amp;usg=__gZI-jK6EBQb7AXg7LHIdHY4qSO4=&amp;h=400&amp;w=395&amp;sz=32&amp;hl=en&amp;start=5&amp;itbs=1&amp;tbnid=F3k0vO5IXN2QUM:&amp;tbnh=124&amp;tbnw=122&amp;prev=/images%3Fq%3Dblake%2Blively%26hl%3Den%26safe%3Dstrict%26gbv%3D2%26tbs%3Disch:1" TargetMode="External"/><Relationship Id="rId6" Type="http://schemas.openxmlformats.org/officeDocument/2006/relationships/image" Target="../media/image3.jpe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hyperlink" Target="http://www.google.com/imgres?imgurl=http://alertnerd.com/blog/wp-content/uploads/2009/03/blakelively.jpg&amp;imgrefurl=http://www.alertnerd.com/%3Fp%3D1801&amp;usg=__gZI-jK6EBQb7AXg7LHIdHY4qSO4=&amp;h=400&amp;w=395&amp;sz=32&amp;hl=en&amp;start=5&amp;itbs=1&amp;tbnid=F3k0vO5IXN2QUM:&amp;tbnh=124&amp;tbnw=122&amp;prev=/images%3Fq%3Dblake%2Blively%26hl%3Den%26safe%3Dstrict%26gbv%3D2%26tbs%3Disch:1" TargetMode="External"/><Relationship Id="rId10" Type="http://schemas.openxmlformats.org/officeDocument/2006/relationships/image" Target="../media/image3.jpeg"/><Relationship Id="rId11" Type="http://schemas.openxmlformats.org/officeDocument/2006/relationships/hyperlink" Target="http://www.google.com/imgres?imgurl=http://alertnerd.com/blog/wp-content/uploads/2009/03/blakelively.jpg&amp;imgrefurl=http://www.alertnerd.com/%3Fp%3D1801&amp;usg=__gZI-jK6EBQb7AXg7LHIdHY4qSO4=&amp;h=400&amp;w=395&amp;sz=32&amp;hl=en&amp;start=5&amp;itbs=1&amp;tbnid=F3k0vO5IXN2QUM:&amp;tbnh=124&amp;tbnw=122&amp;prev=/images%3Fq%3Dblake%2Blively%26hl%3Den%26safe%3Dstrict%26gbv%3D2%26tbs%3Disch:1" TargetMode="External"/><Relationship Id="rId12" Type="http://schemas.openxmlformats.org/officeDocument/2006/relationships/image" Target="../media/image3.jpeg"/><Relationship Id="rId13" Type="http://schemas.openxmlformats.org/officeDocument/2006/relationships/hyperlink" Target="http://www.google.com/imgres?imgurl=http://images.pictureshunt.com/pics/c/celebrity_gerard_butler-4087.jpg&amp;imgrefurl=http://www.free-extras.com/images/celebrity_gerard_butler-4087.htm&amp;usg=__oBd1b-_OPj4Z5o15wWac22KpxSU=&amp;h=439&amp;w=300&amp;sz=25&amp;hl=en&amp;start=8&amp;itbs=1&amp;tbnid=chJjjCFu_LbNRM:&amp;tbnh=127&amp;tbnw=87&amp;prev=/images%3Fq%3Dgerard%2Bbutler%26hl%3Den%26safe%3Dstrict%26gbv%3D2%26tbs%3Disch:1" TargetMode="External"/><Relationship Id="rId14" Type="http://schemas.openxmlformats.org/officeDocument/2006/relationships/image" Target="../media/image5.jpeg"/><Relationship Id="rId15" Type="http://schemas.openxmlformats.org/officeDocument/2006/relationships/hyperlink" Target="http://www.google.com/imgres?imgurl=http://www.twelfth-night.info/clicknotes/romeo/friar_lawrence.jpg&amp;imgrefurl=http://www.twelfth-night.info/clicknotes/romeo/Friarl.html&amp;usg=__kiDLWAainW6DAK0gfiBHtkTTKxE=&amp;h=363&amp;w=300&amp;sz=21&amp;hl=en&amp;start=5&amp;itbs=1&amp;tbnid=QtWVQVcihqoHHM:&amp;tbnh=121&amp;tbnw=100&amp;prev=/images%3Fq%3Dfriar%26hl%3Den%26safe%3Dstrict%26gbv%3D2%26tbs%3Disch:1" TargetMode="External"/><Relationship Id="rId16" Type="http://schemas.openxmlformats.org/officeDocument/2006/relationships/image" Target="../media/image9.jpeg"/><Relationship Id="rId17" Type="http://schemas.openxmlformats.org/officeDocument/2006/relationships/slideLayout" Target="../slideLayouts/slideLayout1.xml"/><Relationship Id="rId1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hyperlink" Target="http://www.google.com/imgres?imgurl=http://alertnerd.com/blog/wp-content/uploads/2009/03/blakelively.jpg&amp;imgrefurl=http://www.alertnerd.com/%3Fp%3D1801&amp;usg=__gZI-jK6EBQb7AXg7LHIdHY4qSO4=&amp;h=400&amp;w=395&amp;sz=32&amp;hl=en&amp;start=5&amp;itbs=1&amp;tbnid=F3k0vO5IXN2QUM:&amp;tbnh=124&amp;tbnw=122&amp;prev=/images%3Fq%3Dblake%2Blively%26hl%3Den%26safe%3Dstrict%26gbv%3D2%26tbs%3Disch:1" TargetMode="External"/><Relationship Id="rId6" Type="http://schemas.openxmlformats.org/officeDocument/2006/relationships/image" Target="../media/image3.jpeg"/><Relationship Id="rId7" Type="http://schemas.openxmlformats.org/officeDocument/2006/relationships/hyperlink" Target="http://www.google.com/imgres?imgurl=http://alertnerd.com/blog/wp-content/uploads/2009/03/blakelively.jpg&amp;imgrefurl=http://www.alertnerd.com/%3Fp%3D1801&amp;usg=__gZI-jK6EBQb7AXg7LHIdHY4qSO4=&amp;h=400&amp;w=395&amp;sz=32&amp;hl=en&amp;start=5&amp;itbs=1&amp;tbnid=F3k0vO5IXN2QUM:&amp;tbnh=124&amp;tbnw=122&amp;prev=/images%3Fq%3Dblake%2Blively%26hl%3Den%26safe%3Dstrict%26gbv%3D2%26tbs%3Disch:1" TargetMode="External"/><Relationship Id="rId8" Type="http://schemas.openxmlformats.org/officeDocument/2006/relationships/image" Target="../media/image3.jpeg"/><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hyperlink" Target="http://www.google.com/imgres?imgurl=http://alertnerd.com/blog/wp-content/uploads/2009/03/blakelively.jpg&amp;imgrefurl=http://www.alertnerd.com/%3Fp%3D1801&amp;usg=__gZI-jK6EBQb7AXg7LHIdHY4qSO4=&amp;h=400&amp;w=395&amp;sz=32&amp;hl=en&amp;start=5&amp;itbs=1&amp;tbnid=F3k0vO5IXN2QUM:&amp;tbnh=124&amp;tbnw=122&amp;prev=/images%3Fq%3Dblake%2Blively%26hl%3Den%26safe%3Dstrict%26gbv%3D2%26tbs%3Disch:1" TargetMode="External"/><Relationship Id="rId6" Type="http://schemas.openxmlformats.org/officeDocument/2006/relationships/image" Target="../media/image3.jpeg"/><Relationship Id="rId7" Type="http://schemas.openxmlformats.org/officeDocument/2006/relationships/hyperlink" Target="http://www.google.com/imgres?imgurl=http://alertnerd.com/blog/wp-content/uploads/2009/03/blakelively.jpg&amp;imgrefurl=http://www.alertnerd.com/%3Fp%3D1801&amp;usg=__gZI-jK6EBQb7AXg7LHIdHY4qSO4=&amp;h=400&amp;w=395&amp;sz=32&amp;hl=en&amp;start=5&amp;itbs=1&amp;tbnid=F3k0vO5IXN2QUM:&amp;tbnh=124&amp;tbnw=122&amp;prev=/images%3Fq%3Dblake%2Blively%26hl%3Den%26safe%3Dstrict%26gbv%3D2%26tbs%3Disch:1" TargetMode="External"/><Relationship Id="rId8" Type="http://schemas.openxmlformats.org/officeDocument/2006/relationships/image" Target="../media/image3.jpeg"/><Relationship Id="rId9" Type="http://schemas.openxmlformats.org/officeDocument/2006/relationships/hyperlink" Target="http://www.google.com/imgres?imgurl=http://images.pictureshunt.com/pics/c/celebrity_gerard_butler-4087.jpg&amp;imgrefurl=http://www.free-extras.com/images/celebrity_gerard_butler-4087.htm&amp;usg=__oBd1b-_OPj4Z5o15wWac22KpxSU=&amp;h=439&amp;w=300&amp;sz=25&amp;hl=en&amp;start=8&amp;itbs=1&amp;tbnid=chJjjCFu_LbNRM:&amp;tbnh=127&amp;tbnw=87&amp;prev=/images%3Fq%3Dgerard%2Bbutler%26hl%3Den%26safe%3Dstrict%26gbv%3D2%26tbs%3Disch:1" TargetMode="External"/><Relationship Id="rId10" Type="http://schemas.openxmlformats.org/officeDocument/2006/relationships/image" Target="../media/image5.jpeg"/><Relationship Id="rId11" Type="http://schemas.openxmlformats.org/officeDocument/2006/relationships/slideLayout" Target="../slideLayouts/slideLayout1.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Relationship Id="rId3" Type="http://schemas.openxmlformats.org/officeDocument/2006/relationships/slide" Target="slide1.xml"/><Relationship Id="rId4" Type="http://schemas.openxmlformats.org/officeDocument/2006/relationships/slide" Target=""/><Relationship Id="rId5" Type="http://schemas.openxmlformats.org/officeDocument/2006/relationships/slide" Target=""/><Relationship Id="rId6" Type="http://schemas.openxmlformats.org/officeDocument/2006/relationships/hyperlink" Target="http://www.google.com/imgres?imgurl=http://alertnerd.com/blog/wp-content/uploads/2009/03/blakelively.jpg&amp;imgrefurl=http://www.alertnerd.com/%3Fp%3D1801&amp;usg=__gZI-jK6EBQb7AXg7LHIdHY4qSO4=&amp;h=400&amp;w=395&amp;sz=32&amp;hl=en&amp;start=5&amp;itbs=1&amp;tbnid=F3k0vO5IXN2QUM:&amp;tbnh=124&amp;tbnw=122&amp;prev=/images%3Fq%3Dblake%2Blively%26hl%3Den%26safe%3Dstrict%26gbv%3D2%26tbs%3Disch:1" TargetMode="External"/><Relationship Id="rId7" Type="http://schemas.openxmlformats.org/officeDocument/2006/relationships/image" Target="../media/image3.jpeg"/><Relationship Id="rId8" Type="http://schemas.openxmlformats.org/officeDocument/2006/relationships/hyperlink" Target="http://www.google.com/imgres?imgurl=http://www.twelfth-night.info/clicknotes/romeo/friar_lawrence.jpg&amp;imgrefurl=http://www.twelfth-night.info/clicknotes/romeo/Friarl.html&amp;usg=__kiDLWAainW6DAK0gfiBHtkTTKxE=&amp;h=363&amp;w=300&amp;sz=21&amp;hl=en&amp;start=5&amp;itbs=1&amp;tbnid=QtWVQVcihqoHHM:&amp;tbnh=121&amp;tbnw=100&amp;prev=/images%3Fq%3Dfriar%26hl%3Den%26safe%3Dstrict%26gbv%3D2%26tbs%3Disch:1" TargetMode="External"/><Relationship Id="rId9" Type="http://schemas.openxmlformats.org/officeDocument/2006/relationships/image" Target="../media/image9.jpeg"/><Relationship Id="rId10" Type="http://schemas.openxmlformats.org/officeDocument/2006/relationships/image" Target="../media/image3.jpeg"/><Relationship Id="rId11" Type="http://schemas.openxmlformats.org/officeDocument/2006/relationships/slideLayout" Target="../slideLayouts/slideLayout1.xml"/><Relationship Id="rId1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0" y="304920"/>
            <a:ext cx="9144000" cy="9903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a:t>
            </a:r>
            <a:r>
              <a:rPr b="0" lang="en-US" sz="1000" spc="-1" strike="noStrike">
                <a:solidFill>
                  <a:srgbClr val="000000"/>
                </a:solidFill>
                <a:latin typeface="Arial"/>
              </a:rPr>
              <a:t> </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1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 </a:t>
            </a: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 </a:t>
            </a:r>
            <a:r>
              <a:rPr b="0" lang="en-US" sz="800" spc="-1" strike="noStrike">
                <a:solidFill>
                  <a:srgbClr val="000000"/>
                </a:solidFill>
                <a:latin typeface="Arial"/>
              </a:rPr>
              <a:t>July 31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a:t>
            </a: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 : </a:t>
            </a: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 </a:t>
            </a: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49528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58672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Tybalt</a:t>
            </a:r>
            <a:endParaRPr b="0" lang="en-US" sz="800" spc="-1" strike="noStrike">
              <a:solidFill>
                <a:srgbClr val="ffffff"/>
              </a:solidFill>
              <a:latin typeface="Arial"/>
            </a:endParaRPr>
          </a:p>
        </p:txBody>
      </p:sp>
      <p:sp>
        <p:nvSpPr>
          <p:cNvPr id="79" name="Text Box 32"/>
          <p:cNvSpPr/>
          <p:nvPr/>
        </p:nvSpPr>
        <p:spPr>
          <a:xfrm>
            <a:off x="609480" y="594360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Paris</a:t>
            </a:r>
            <a:endParaRPr b="0" lang="en-US" sz="800" spc="-1" strike="noStrike">
              <a:solidFill>
                <a:srgbClr val="ffffff"/>
              </a:solidFill>
              <a:latin typeface="Arial"/>
            </a:endParaRPr>
          </a:p>
        </p:txBody>
      </p:sp>
      <p:sp>
        <p:nvSpPr>
          <p:cNvPr id="80" name="Text Box 34"/>
          <p:cNvSpPr/>
          <p:nvPr/>
        </p:nvSpPr>
        <p:spPr>
          <a:xfrm>
            <a:off x="1219320" y="60199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Romeo</a:t>
            </a:r>
            <a:endParaRPr b="0" lang="en-US" sz="800" spc="-1" strike="noStrike">
              <a:solidFill>
                <a:srgbClr val="ffffff"/>
              </a:solidFill>
              <a:latin typeface="Arial"/>
            </a:endParaRPr>
          </a:p>
        </p:txBody>
      </p:sp>
      <p:sp>
        <p:nvSpPr>
          <p:cNvPr id="81" name="Rectangle 39"/>
          <p:cNvSpPr/>
          <p:nvPr/>
        </p:nvSpPr>
        <p:spPr>
          <a:xfrm>
            <a:off x="2590920" y="2590920"/>
            <a:ext cx="449568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Juliet </a:t>
            </a:r>
            <a:r>
              <a:rPr b="0" lang="en-US" sz="900" spc="-1" strike="noStrike">
                <a:solidFill>
                  <a:srgbClr val="000000"/>
                </a:solidFill>
                <a:latin typeface="Arial"/>
              </a:rPr>
              <a:t>No matter what I do things still are getting worse.. I have an idea and I think it will work for the best …In good time things will be better. I have to do what I gotta do! Romeo &lt;3</a:t>
            </a:r>
            <a:endParaRPr b="0" lang="en-US" sz="9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Paris</a:t>
            </a:r>
            <a:r>
              <a:rPr b="0" lang="en-US" sz="1200" spc="-1" strike="noStrike">
                <a:solidFill>
                  <a:srgbClr val="000000"/>
                </a:solidFill>
                <a:latin typeface="Arial"/>
              </a:rPr>
              <a:t> </a:t>
            </a:r>
            <a:r>
              <a:rPr b="0" lang="en-US" sz="900" spc="-1" strike="noStrike">
                <a:solidFill>
                  <a:srgbClr val="000000"/>
                </a:solidFill>
                <a:latin typeface="Arial"/>
              </a:rPr>
              <a:t>I just talked with your father. It was definitely exciting for me . I got good news for you. I need to talk at you soon! Everything is in place!</a:t>
            </a:r>
            <a:endParaRPr b="0" lang="en-US" sz="900" spc="-1" strike="noStrike">
              <a:solidFill>
                <a:srgbClr val="ffffff"/>
              </a:solidFill>
              <a:latin typeface="Arial"/>
            </a:endParaRPr>
          </a:p>
        </p:txBody>
      </p:sp>
      <p:sp>
        <p:nvSpPr>
          <p:cNvPr id="84" name="Rectangle 44"/>
          <p:cNvSpPr/>
          <p:nvPr/>
        </p:nvSpPr>
        <p:spPr>
          <a:xfrm>
            <a:off x="3276720" y="38862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Juliet toTybalt </a:t>
            </a:r>
            <a:r>
              <a:rPr b="0" lang="en-US" sz="900" spc="-1" strike="noStrike">
                <a:solidFill>
                  <a:srgbClr val="000000"/>
                </a:solidFill>
                <a:latin typeface="Arial"/>
              </a:rPr>
              <a:t>I love you Tybalt!&lt;3 You will be always in my heart forever! R.I.P.! </a:t>
            </a:r>
            <a:r>
              <a:rPr b="0" lang="en-US" sz="900" spc="-1" strike="noStrike">
                <a:solidFill>
                  <a:srgbClr val="000000"/>
                </a:solidFill>
                <a:latin typeface="Wingdings"/>
                <a:ea typeface="Wingdings"/>
              </a:rPr>
              <a:t></a:t>
            </a:r>
            <a:r>
              <a:rPr b="0" lang="en-US" sz="900" spc="-1" strike="noStrike">
                <a:solidFill>
                  <a:srgbClr val="000000"/>
                </a:solidFill>
                <a:latin typeface="Arial"/>
              </a:rPr>
              <a:t> Why did it have to happen like this?</a:t>
            </a:r>
            <a:r>
              <a:rPr b="1" lang="en-US" sz="1200" spc="-1" strike="noStrike">
                <a:solidFill>
                  <a:srgbClr val="000000"/>
                </a:solidFill>
                <a:latin typeface="Arial"/>
              </a:rPr>
              <a:t> </a:t>
            </a:r>
            <a:endParaRPr b="0" lang="en-US" sz="1200" spc="-1" strike="noStrike">
              <a:solidFill>
                <a:srgbClr val="ffffff"/>
              </a:solidFill>
              <a:latin typeface="Arial"/>
            </a:endParaRPr>
          </a:p>
        </p:txBody>
      </p:sp>
      <p:sp>
        <p:nvSpPr>
          <p:cNvPr id="85" name="Rectangle 45"/>
          <p:cNvSpPr/>
          <p:nvPr/>
        </p:nvSpPr>
        <p:spPr>
          <a:xfrm>
            <a:off x="2590920" y="4495680"/>
            <a:ext cx="449568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Juliet</a:t>
            </a:r>
            <a:r>
              <a:rPr b="0" lang="en-US" sz="900" spc="-1" strike="noStrike">
                <a:solidFill>
                  <a:srgbClr val="000000"/>
                </a:solidFill>
                <a:latin typeface="Arial"/>
              </a:rPr>
              <a:t>  The party wasn’t all that hot until something incredible just happened to me but I’m not sure if it is for the good or the bad… It is definitely mysterious… Do I get a name? </a:t>
            </a:r>
            <a:endParaRPr b="0" lang="en-US" sz="900" spc="-1" strike="noStrike">
              <a:solidFill>
                <a:srgbClr val="ffffff"/>
              </a:solidFill>
              <a:latin typeface="Arial"/>
            </a:endParaRPr>
          </a:p>
        </p:txBody>
      </p:sp>
      <p:sp>
        <p:nvSpPr>
          <p:cNvPr id="86" name="Rectangle 46"/>
          <p:cNvSpPr/>
          <p:nvPr/>
        </p:nvSpPr>
        <p:spPr>
          <a:xfrm>
            <a:off x="2666880" y="5410080"/>
            <a:ext cx="449604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Tybalt </a:t>
            </a:r>
            <a:r>
              <a:rPr b="0" lang="en-US" sz="900" spc="-1" strike="noStrike">
                <a:solidFill>
                  <a:srgbClr val="000000"/>
                </a:solidFill>
                <a:latin typeface="Arial"/>
              </a:rPr>
              <a:t> Hey cousin you bet this party will be pumping ! !! Hopefully nobody tries to ruin it or I will take them out!!! Your cuz-Tybalt:D </a:t>
            </a:r>
            <a:endParaRPr b="0" lang="en-US" sz="900" spc="-1" strike="noStrike">
              <a:solidFill>
                <a:srgbClr val="ffffff"/>
              </a:solidFill>
              <a:latin typeface="Arial"/>
            </a:endParaRPr>
          </a:p>
        </p:txBody>
      </p:sp>
      <p:sp>
        <p:nvSpPr>
          <p:cNvPr id="87" name="Rectangle 47"/>
          <p:cNvSpPr/>
          <p:nvPr/>
        </p:nvSpPr>
        <p:spPr>
          <a:xfrm>
            <a:off x="2743200" y="6019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900" spc="-1" strike="noStrike">
                <a:solidFill>
                  <a:srgbClr val="000000"/>
                </a:solidFill>
                <a:latin typeface="Arial"/>
              </a:rPr>
              <a:t> Is pumped for the party!!! Hopefully I will meet some cute guys!!</a:t>
            </a:r>
            <a:r>
              <a:rPr b="0" lang="en-US" sz="900" spc="-1" strike="noStrike">
                <a:solidFill>
                  <a:srgbClr val="000000"/>
                </a:solidFill>
                <a:latin typeface="Wingdings"/>
                <a:ea typeface="Wingdings"/>
              </a:rPr>
              <a:t></a:t>
            </a:r>
            <a:endParaRPr b="0" lang="en-US" sz="9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981080"/>
          <a:ext cx="1602000" cy="443160"/>
        </p:xfrm>
        <a:graphic>
          <a:graphicData uri="http://schemas.openxmlformats.org/drawingml/2006/table">
            <a:tbl>
              <a:tblPr/>
              <a:tblGrid>
                <a:gridCol w="1602000"/>
              </a:tblGrid>
              <a:tr h="44316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Living my life! My parents need to stop pressuring me to find a guy!!!</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63" descr="channing-tatum">
            <a:hlinkClick r:id="rId5"/>
          </p:cNvPr>
          <p:cNvPicPr/>
          <p:nvPr/>
        </p:nvPicPr>
        <p:blipFill>
          <a:blip r:embed="rId6"/>
          <a:stretch/>
        </p:blipFill>
        <p:spPr>
          <a:xfrm>
            <a:off x="1143000" y="5181480"/>
            <a:ext cx="600120" cy="800280"/>
          </a:xfrm>
          <a:prstGeom prst="rect">
            <a:avLst/>
          </a:prstGeom>
          <a:ln w="0">
            <a:noFill/>
          </a:ln>
        </p:spPr>
      </p:pic>
      <p:pic>
        <p:nvPicPr>
          <p:cNvPr id="92" name="Picture 66" descr="liam_hemsworth_thor">
            <a:hlinkClick r:id="rId7"/>
          </p:cNvPr>
          <p:cNvPicPr/>
          <p:nvPr/>
        </p:nvPicPr>
        <p:blipFill>
          <a:blip r:embed="rId8"/>
          <a:stretch/>
        </p:blipFill>
        <p:spPr>
          <a:xfrm>
            <a:off x="0" y="5181480"/>
            <a:ext cx="565200" cy="704880"/>
          </a:xfrm>
          <a:prstGeom prst="rect">
            <a:avLst/>
          </a:prstGeom>
          <a:ln w="0">
            <a:noFill/>
          </a:ln>
        </p:spPr>
      </p:pic>
      <p:pic>
        <p:nvPicPr>
          <p:cNvPr id="93" name="Picture 68" descr="http://t0.gstatic.com/images?q=tbn:F3k0vO5IXN2QUM:http://alertnerd.com/blog/wp-content/uploads/2009/03/blakelively.jpg">
            <a:hlinkClick r:id="rId9"/>
          </p:cNvPr>
          <p:cNvPicPr/>
          <p:nvPr/>
        </p:nvPicPr>
        <p:blipFill>
          <a:blip r:embed="rId10"/>
          <a:stretch/>
        </p:blipFill>
        <p:spPr>
          <a:xfrm>
            <a:off x="152280" y="457200"/>
            <a:ext cx="1462320" cy="1486080"/>
          </a:xfrm>
          <a:prstGeom prst="rect">
            <a:avLst/>
          </a:prstGeom>
          <a:ln w="0">
            <a:noFill/>
          </a:ln>
        </p:spPr>
      </p:pic>
      <p:pic>
        <p:nvPicPr>
          <p:cNvPr id="94" name="Picture 68" descr="http://t0.gstatic.com/images?q=tbn:F3k0vO5IXN2QUM:http://alertnerd.com/blog/wp-content/uploads/2009/03/blakelively.jpg">
            <a:hlinkClick r:id="rId11"/>
          </p:cNvPr>
          <p:cNvPicPr/>
          <p:nvPr/>
        </p:nvPicPr>
        <p:blipFill>
          <a:blip r:embed="rId12"/>
          <a:stretch/>
        </p:blipFill>
        <p:spPr>
          <a:xfrm>
            <a:off x="1981080" y="5943600"/>
            <a:ext cx="636840" cy="647640"/>
          </a:xfrm>
          <a:prstGeom prst="rect">
            <a:avLst/>
          </a:prstGeom>
          <a:ln w="0">
            <a:noFill/>
          </a:ln>
        </p:spPr>
      </p:pic>
      <p:pic>
        <p:nvPicPr>
          <p:cNvPr id="95" name="Picture 66" descr="liam_hemsworth_thor">
            <a:hlinkClick r:id="rId13"/>
          </p:cNvPr>
          <p:cNvPicPr/>
          <p:nvPr/>
        </p:nvPicPr>
        <p:blipFill>
          <a:blip r:embed="rId14"/>
          <a:stretch/>
        </p:blipFill>
        <p:spPr>
          <a:xfrm>
            <a:off x="2057400" y="5257800"/>
            <a:ext cx="565200" cy="704880"/>
          </a:xfrm>
          <a:prstGeom prst="rect">
            <a:avLst/>
          </a:prstGeom>
          <a:ln w="0">
            <a:noFill/>
          </a:ln>
        </p:spPr>
      </p:pic>
      <p:pic>
        <p:nvPicPr>
          <p:cNvPr id="96" name="Picture 68" descr="http://t0.gstatic.com/images?q=tbn:F3k0vO5IXN2QUM:http://alertnerd.com/blog/wp-content/uploads/2009/03/blakelively.jpg">
            <a:hlinkClick r:id="rId15"/>
          </p:cNvPr>
          <p:cNvPicPr/>
          <p:nvPr/>
        </p:nvPicPr>
        <p:blipFill>
          <a:blip r:embed="rId16"/>
          <a:stretch/>
        </p:blipFill>
        <p:spPr>
          <a:xfrm>
            <a:off x="1981080" y="4572000"/>
            <a:ext cx="636840" cy="647640"/>
          </a:xfrm>
          <a:prstGeom prst="rect">
            <a:avLst/>
          </a:prstGeom>
          <a:ln w="0">
            <a:noFill/>
          </a:ln>
        </p:spPr>
      </p:pic>
      <p:pic>
        <p:nvPicPr>
          <p:cNvPr id="97" name="Picture 61" descr="celebrity_gerard_butler-4087">
            <a:hlinkClick r:id="rId17"/>
          </p:cNvPr>
          <p:cNvPicPr/>
          <p:nvPr/>
        </p:nvPicPr>
        <p:blipFill>
          <a:blip r:embed="rId18"/>
          <a:stretch/>
        </p:blipFill>
        <p:spPr>
          <a:xfrm>
            <a:off x="609480" y="5181480"/>
            <a:ext cx="520920" cy="762120"/>
          </a:xfrm>
          <a:prstGeom prst="rect">
            <a:avLst/>
          </a:prstGeom>
          <a:ln w="0">
            <a:noFill/>
          </a:ln>
        </p:spPr>
      </p:pic>
      <p:pic>
        <p:nvPicPr>
          <p:cNvPr id="98" name="Picture 61" descr="celebrity_gerard_butler-4087">
            <a:hlinkClick r:id="rId19"/>
          </p:cNvPr>
          <p:cNvPicPr/>
          <p:nvPr/>
        </p:nvPicPr>
        <p:blipFill>
          <a:blip r:embed="rId20"/>
          <a:stretch/>
        </p:blipFill>
        <p:spPr>
          <a:xfrm>
            <a:off x="2057400" y="3200400"/>
            <a:ext cx="520560" cy="762120"/>
          </a:xfrm>
          <a:prstGeom prst="rect">
            <a:avLst/>
          </a:prstGeom>
          <a:ln w="0">
            <a:noFill/>
          </a:ln>
        </p:spPr>
      </p:pic>
      <p:pic>
        <p:nvPicPr>
          <p:cNvPr id="99" name="Picture 66" descr="liam_hemsworth_thor">
            <a:hlinkClick r:id="rId21"/>
          </p:cNvPr>
          <p:cNvPicPr/>
          <p:nvPr/>
        </p:nvPicPr>
        <p:blipFill>
          <a:blip r:embed="rId22"/>
          <a:stretch/>
        </p:blipFill>
        <p:spPr>
          <a:xfrm>
            <a:off x="2666880" y="3809880"/>
            <a:ext cx="565200" cy="704880"/>
          </a:xfrm>
          <a:prstGeom prst="rect">
            <a:avLst/>
          </a:prstGeom>
          <a:ln w="0">
            <a:noFill/>
          </a:ln>
        </p:spPr>
      </p:pic>
      <p:pic>
        <p:nvPicPr>
          <p:cNvPr id="100" name="Picture 68" descr="http://t0.gstatic.com/images?q=tbn:F3k0vO5IXN2QUM:http://alertnerd.com/blog/wp-content/uploads/2009/03/blakelively.jpg">
            <a:hlinkClick r:id="rId23"/>
          </p:cNvPr>
          <p:cNvPicPr/>
          <p:nvPr/>
        </p:nvPicPr>
        <p:blipFill>
          <a:blip r:embed="rId24"/>
          <a:stretch/>
        </p:blipFill>
        <p:spPr>
          <a:xfrm>
            <a:off x="1981080" y="3886200"/>
            <a:ext cx="636840" cy="647640"/>
          </a:xfrm>
          <a:prstGeom prst="rect">
            <a:avLst/>
          </a:prstGeom>
          <a:ln w="0">
            <a:noFill/>
          </a:ln>
        </p:spPr>
      </p:pic>
      <p:pic>
        <p:nvPicPr>
          <p:cNvPr id="101" name="Picture 68" descr="http://t0.gstatic.com/images?q=tbn:F3k0vO5IXN2QUM:http://alertnerd.com/blog/wp-content/uploads/2009/03/blakelively.jpg">
            <a:hlinkClick r:id="rId25"/>
          </p:cNvPr>
          <p:cNvPicPr/>
          <p:nvPr/>
        </p:nvPicPr>
        <p:blipFill>
          <a:blip r:embed="rId26"/>
          <a:stretch/>
        </p:blipFill>
        <p:spPr>
          <a:xfrm>
            <a:off x="1981080" y="2514600"/>
            <a:ext cx="636840" cy="647640"/>
          </a:xfrm>
          <a:prstGeom prst="rect">
            <a:avLst/>
          </a:prstGeom>
          <a:ln w="0">
            <a:noFill/>
          </a:ln>
        </p:spPr>
      </p:pic>
      <p:pic>
        <p:nvPicPr>
          <p:cNvPr id="102" name="Picture 61" descr="http://t0.gstatic.com/images?q=tbn:h5kwPoPv0hjnUM:http://www.thecinemasource.com/moviesdb/images/Ryan_Reynolds-1.jpg">
            <a:hlinkClick r:id="rId27"/>
          </p:cNvPr>
          <p:cNvPicPr/>
          <p:nvPr/>
        </p:nvPicPr>
        <p:blipFill>
          <a:blip r:embed="rId28"/>
          <a:stretch/>
        </p:blipFill>
        <p:spPr>
          <a:xfrm>
            <a:off x="0" y="6045120"/>
            <a:ext cx="609480" cy="812880"/>
          </a:xfrm>
          <a:prstGeom prst="rect">
            <a:avLst/>
          </a:prstGeom>
          <a:ln w="0">
            <a:noFill/>
          </a:ln>
        </p:spPr>
      </p:pic>
      <p:sp>
        <p:nvSpPr>
          <p:cNvPr id="103" name="Text Box 34"/>
          <p:cNvSpPr/>
          <p:nvPr/>
        </p:nvSpPr>
        <p:spPr>
          <a:xfrm>
            <a:off x="609480" y="664056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Escalus</a:t>
            </a:r>
            <a:endParaRPr b="0" lang="en-US" sz="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5"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6" name="Rectangle 3"/>
          <p:cNvSpPr/>
          <p:nvPr/>
        </p:nvSpPr>
        <p:spPr>
          <a:xfrm>
            <a:off x="0" y="6858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7"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8"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Juliet </a:t>
            </a:r>
            <a:endParaRPr b="0" lang="en-US" sz="1400" spc="-1" strike="noStrike">
              <a:solidFill>
                <a:srgbClr val="ffffff"/>
              </a:solidFill>
              <a:latin typeface="Arial"/>
            </a:endParaRPr>
          </a:p>
        </p:txBody>
      </p:sp>
      <p:sp>
        <p:nvSpPr>
          <p:cNvPr id="109"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10"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11"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12"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3"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4"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15"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6"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15)</a:t>
            </a:r>
            <a:endParaRPr b="0" lang="en-US" sz="700" spc="-1" strike="noStrike">
              <a:solidFill>
                <a:srgbClr val="ffffff"/>
              </a:solidFill>
              <a:latin typeface="Arial"/>
            </a:endParaRPr>
          </a:p>
        </p:txBody>
      </p:sp>
      <p:sp>
        <p:nvSpPr>
          <p:cNvPr id="117"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119"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120"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1"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2"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3"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4"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5"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6"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7"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8"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9"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0" name="Text Box 28"/>
          <p:cNvSpPr/>
          <p:nvPr/>
        </p:nvSpPr>
        <p:spPr>
          <a:xfrm>
            <a:off x="152280" y="3581280"/>
            <a:ext cx="1600200" cy="1024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31"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2"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3"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4"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Fe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Sing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endParaRPr b="0" lang="en-US" sz="800" spc="-1" strike="noStrike">
              <a:solidFill>
                <a:srgbClr val="ffffff"/>
              </a:solidFill>
              <a:latin typeface="Arial"/>
            </a:endParaRPr>
          </a:p>
        </p:txBody>
      </p:sp>
      <p:sp>
        <p:nvSpPr>
          <p:cNvPr id="135" name="Text Box 33"/>
          <p:cNvSpPr/>
          <p:nvPr/>
        </p:nvSpPr>
        <p:spPr>
          <a:xfrm>
            <a:off x="2133720" y="3200400"/>
            <a:ext cx="4495680" cy="17492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Hanging with the girls</a:t>
            </a:r>
            <a:r>
              <a:rPr b="0" lang="en-US" sz="800" spc="-1" strike="noStrike">
                <a:solidFill>
                  <a:srgbClr val="000000"/>
                </a:solidFill>
                <a:latin typeface="Wingdings"/>
                <a:ea typeface="Wingdings"/>
              </a:rPr>
              <a:t></a:t>
            </a:r>
            <a:r>
              <a:rPr b="0" lang="en-US" sz="800" spc="-1" strike="noStrike">
                <a:solidFill>
                  <a:srgbClr val="000000"/>
                </a:solidFill>
                <a:latin typeface="Arial"/>
              </a:rPr>
              <a:t> Hosting parties, love having a good time!  </a:t>
            </a:r>
            <a:r>
              <a:rPr b="0" lang="en-US" sz="800" spc="-1" strike="noStrike">
                <a:solidFill>
                  <a:srgbClr val="000000"/>
                </a:solidFill>
                <a:latin typeface="Arial"/>
              </a:rPr>
              <a:t>	</a:t>
            </a:r>
            <a:r>
              <a:rPr b="0" lang="en-US" sz="800" spc="-1" strike="noStrike">
                <a:solidFill>
                  <a:srgbClr val="000000"/>
                </a:solidFill>
                <a:latin typeface="Arial"/>
              </a:rPr>
              <a:t>                                          Play volleyball!</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Movies, Friends, Parties, Sports, getting  hair and nails done</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I like a lot but I like Ke$ha, Beyonce,  Kellie Pickler, Carrie    </a:t>
            </a:r>
            <a:r>
              <a:rPr b="0" lang="en-US" sz="800" spc="-1" strike="noStrike">
                <a:solidFill>
                  <a:srgbClr val="000000"/>
                </a:solidFill>
                <a:latin typeface="Arial"/>
              </a:rPr>
              <a:t>	</a:t>
            </a:r>
            <a:r>
              <a:rPr b="0" lang="en-US" sz="800" spc="-1" strike="noStrike">
                <a:solidFill>
                  <a:srgbClr val="000000"/>
                </a:solidFill>
                <a:latin typeface="Arial"/>
              </a:rPr>
              <a:t>                                           Underwood</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P.S. I love you, Raise Your Voice, The Sweetest  Thing, John                </a:t>
            </a:r>
            <a:r>
              <a:rPr b="0" lang="en-US" sz="800" spc="-1" strike="noStrike">
                <a:solidFill>
                  <a:srgbClr val="000000"/>
                </a:solidFill>
                <a:latin typeface="Arial"/>
              </a:rPr>
              <a:t>	</a:t>
            </a:r>
            <a:r>
              <a:rPr b="0" lang="en-US" sz="800" spc="-1" strike="noStrike">
                <a:solidFill>
                  <a:srgbClr val="000000"/>
                </a:solidFill>
                <a:latin typeface="Arial"/>
              </a:rPr>
              <a:t>                                          Tucker Must Die, Baby Momma, All Adam Sandler Movie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Private Practice, Grey’s Anatomy, MTV Cribs, Comedy Central, </a:t>
            </a:r>
            <a:r>
              <a:rPr b="0" lang="en-US" sz="800" spc="-1" strike="noStrike">
                <a:solidFill>
                  <a:srgbClr val="000000"/>
                </a:solidFill>
                <a:latin typeface="Arial"/>
              </a:rPr>
              <a:t>	</a:t>
            </a:r>
            <a:r>
              <a:rPr b="0" lang="en-US" sz="800" spc="-1" strike="noStrike">
                <a:solidFill>
                  <a:srgbClr val="000000"/>
                </a:solidFill>
                <a:latin typeface="Arial"/>
              </a:rPr>
              <a:t>                                           Oxygen</a:t>
            </a:r>
            <a:r>
              <a:rPr b="0" lang="en-US" sz="800" spc="-1" strike="noStrike">
                <a:solidFill>
                  <a:srgbClr val="000000"/>
                </a:solidFill>
                <a:latin typeface="Arial"/>
              </a:rPr>
              <a:t>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The Last Song, My Sister’s Keeper, Gossip Girls, Dear John </a:t>
            </a:r>
            <a:endParaRPr b="0" lang="en-US" sz="800" spc="-1" strike="noStrike">
              <a:solidFill>
                <a:srgbClr val="ffffff"/>
              </a:solidFill>
              <a:latin typeface="Arial"/>
            </a:endParaRPr>
          </a:p>
        </p:txBody>
      </p:sp>
      <p:sp>
        <p:nvSpPr>
          <p:cNvPr id="136" name="Text Box 34"/>
          <p:cNvSpPr/>
          <p:nvPr/>
        </p:nvSpPr>
        <p:spPr>
          <a:xfrm>
            <a:off x="838080" y="533412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e at the Party!</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last Friday</a:t>
            </a:r>
            <a:endParaRPr b="0" lang="en-US" sz="800" spc="-1" strike="noStrike">
              <a:solidFill>
                <a:srgbClr val="ffffff"/>
              </a:solidFill>
              <a:latin typeface="Arial"/>
            </a:endParaRPr>
          </a:p>
        </p:txBody>
      </p:sp>
      <p:sp>
        <p:nvSpPr>
          <p:cNvPr id="137"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8" name="Text Box 36"/>
          <p:cNvSpPr/>
          <p:nvPr/>
        </p:nvSpPr>
        <p:spPr>
          <a:xfrm>
            <a:off x="838080" y="617220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y girls and me</a:t>
            </a:r>
            <a:r>
              <a:rPr b="0" lang="en-US" sz="800" spc="-1" strike="noStrike">
                <a:solidFill>
                  <a:srgbClr val="333399"/>
                </a:solidFill>
                <a:latin typeface="Wingdings"/>
                <a:ea typeface="Wingdings"/>
              </a:rPr>
              <a:t></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one month ago</a:t>
            </a:r>
            <a:endParaRPr b="0" lang="en-US" sz="800" spc="-1" strike="noStrike">
              <a:solidFill>
                <a:srgbClr val="ffffff"/>
              </a:solidFill>
              <a:latin typeface="Arial"/>
            </a:endParaRPr>
          </a:p>
        </p:txBody>
      </p:sp>
      <p:sp>
        <p:nvSpPr>
          <p:cNvPr id="139"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40"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1"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Capulet Ave. 12211</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576) 432-0021 </a:t>
            </a:r>
            <a:endParaRPr b="0" lang="en-US" sz="800" spc="-1" strike="noStrike">
              <a:solidFill>
                <a:srgbClr val="ffffff"/>
              </a:solidFill>
              <a:latin typeface="Arial"/>
            </a:endParaRPr>
          </a:p>
        </p:txBody>
      </p:sp>
      <p:graphicFrame>
        <p:nvGraphicFramePr>
          <p:cNvPr id="142" name=""/>
          <p:cNvGraphicFramePr/>
          <p:nvPr/>
        </p:nvGraphicFramePr>
        <p:xfrm>
          <a:off x="114480" y="1870200"/>
          <a:ext cx="1525320" cy="554040"/>
        </p:xfrm>
        <a:graphic>
          <a:graphicData uri="http://schemas.openxmlformats.org/drawingml/2006/table">
            <a:tbl>
              <a:tblPr/>
              <a:tblGrid>
                <a:gridCol w="1525320"/>
              </a:tblGrid>
              <a:tr h="5540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3" name="Picture 50" descr="http://t2.gstatic.com/images?q=tbn:YOz-xzbZtrQfRM:http://www.watchgossipgirlshow.com/wp-content/uploads/2009/04/blake-lively-picture-4.jpg">
            <a:hlinkClick r:id="rId7"/>
          </p:cNvPr>
          <p:cNvPicPr/>
          <p:nvPr/>
        </p:nvPicPr>
        <p:blipFill>
          <a:blip r:embed="rId8"/>
          <a:stretch/>
        </p:blipFill>
        <p:spPr>
          <a:xfrm>
            <a:off x="152280" y="5257800"/>
            <a:ext cx="644760" cy="838080"/>
          </a:xfrm>
          <a:prstGeom prst="rect">
            <a:avLst/>
          </a:prstGeom>
          <a:ln w="0">
            <a:noFill/>
          </a:ln>
        </p:spPr>
      </p:pic>
      <p:pic>
        <p:nvPicPr>
          <p:cNvPr id="144" name="Picture 54" descr="http://t3.gstatic.com/images?q=tbn:KhnT0O7LT4NZgM:http://www.parentpreviews.com/legacy-pics/sisterhood_of_the_traveling_pants.jpg">
            <a:hlinkClick r:id="rId9"/>
          </p:cNvPr>
          <p:cNvPicPr/>
          <p:nvPr/>
        </p:nvPicPr>
        <p:blipFill>
          <a:blip r:embed="rId10"/>
          <a:stretch/>
        </p:blipFill>
        <p:spPr>
          <a:xfrm>
            <a:off x="152280" y="6172200"/>
            <a:ext cx="663840" cy="555480"/>
          </a:xfrm>
          <a:prstGeom prst="rect">
            <a:avLst/>
          </a:prstGeom>
          <a:ln w="0">
            <a:noFill/>
          </a:ln>
        </p:spPr>
      </p:pic>
      <p:pic>
        <p:nvPicPr>
          <p:cNvPr id="145" name="Picture 68" descr="http://t0.gstatic.com/images?q=tbn:F3k0vO5IXN2QUM:http://alertnerd.com/blog/wp-content/uploads/2009/03/blakelively.jpg">
            <a:hlinkClick r:id="rId11"/>
          </p:cNvPr>
          <p:cNvPicPr/>
          <p:nvPr/>
        </p:nvPicPr>
        <p:blipFill>
          <a:blip r:embed="rId12"/>
          <a:stretch/>
        </p:blipFill>
        <p:spPr>
          <a:xfrm>
            <a:off x="304920" y="533520"/>
            <a:ext cx="1143000" cy="1162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7"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8"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5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51"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52"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3"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54"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5"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6"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7"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8"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9" name="Text Box 15"/>
          <p:cNvSpPr/>
          <p:nvPr/>
        </p:nvSpPr>
        <p:spPr>
          <a:xfrm>
            <a:off x="609480" y="1523880"/>
            <a:ext cx="5867640" cy="3238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Tybal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This was very intense I don’t know what reaction he is going to have. I’m trying to make sure that he doesn’t do something incredibly stupid. If anyone sees him will you please watch out for him…Thanks: ) Julie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Tybalt: Hey cousin… what’s up that party was totally sick. I’m so pumped for the next one even though there was some totally lame Motagues there. Things were gunna get ugly!!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Hey, yah I know it was pretty sweet and yeh I know there were some party crashers… glad you didn’t do something stupid because if Prince found out you could have been killed.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Tybalt: Yeah I know but I aint scared of nothing you know that I could have kicked some lol.</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Juliet: Yeh I know you could have but you’re my cousin just trying to watch out for you. Be carfeful okay?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Tybalt: Okay I will but I hear that there is stuff gunna go down today.. Hmm sounds interesting but gotta go cuz thanks love ya girl bye:D</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100" spc="-1" strike="noStrike">
              <a:solidFill>
                <a:srgbClr val="ffffff"/>
              </a:solidFill>
              <a:latin typeface="Arial"/>
            </a:endParaRPr>
          </a:p>
        </p:txBody>
      </p:sp>
      <p:sp>
        <p:nvSpPr>
          <p:cNvPr id="160" name="Text Box 16"/>
          <p:cNvSpPr/>
          <p:nvPr/>
        </p:nvSpPr>
        <p:spPr>
          <a:xfrm>
            <a:off x="457200" y="4495680"/>
            <a:ext cx="5638680" cy="2134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What’s going on with me ?...</a:t>
            </a:r>
            <a:endParaRPr b="0" lang="en-US" sz="1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Someone I Just met has me head over heels? Can this even be true? No, it cannot be possible because I barely no him. What if I never see him again? I have to come to some sense and know that I don’t like him. Who am I kidding! I do like him and worst of all l can’t, I shouldn’t like him for my parents would totally disapprove if  they only knew . I like him a lot. My parents have been pressuring me  to like find a guy. Well I found one but it won’t be the kind they will approve of that’s for sure. Why can’t I think logically because every time I do he is in my head. He is in my head and I can’t get him out. Should I never have met him?</a:t>
            </a:r>
            <a:br>
              <a:rPr sz="1200"/>
            </a:br>
            <a:endParaRPr b="0" lang="en-US" sz="1200" spc="-1" strike="noStrike">
              <a:solidFill>
                <a:srgbClr val="ffffff"/>
              </a:solidFill>
              <a:latin typeface="Arial"/>
            </a:endParaRPr>
          </a:p>
        </p:txBody>
      </p:sp>
      <p:sp>
        <p:nvSpPr>
          <p:cNvPr id="161"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Juliet</a:t>
            </a:r>
            <a:endParaRPr b="0" lang="en-US" sz="12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62" name="Rectangle 20"/>
          <p:cNvSpPr/>
          <p:nvPr/>
        </p:nvSpPr>
        <p:spPr>
          <a:xfrm>
            <a:off x="304920" y="1600200"/>
            <a:ext cx="6400800" cy="266688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21"/>
          <p:cNvSpPr/>
          <p:nvPr/>
        </p:nvSpPr>
        <p:spPr>
          <a:xfrm>
            <a:off x="304920" y="4343400"/>
            <a:ext cx="6400800" cy="220968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4" name="Picture 68" descr="http://t0.gstatic.com/images?q=tbn:F3k0vO5IXN2QUM:http://alertnerd.com/blog/wp-content/uploads/2009/03/blakelively.jpg">
            <a:hlinkClick r:id="rId5"/>
          </p:cNvPr>
          <p:cNvPicPr/>
          <p:nvPr/>
        </p:nvPicPr>
        <p:blipFill>
          <a:blip r:embed="rId6"/>
          <a:stretch/>
        </p:blipFill>
        <p:spPr>
          <a:xfrm>
            <a:off x="0" y="533520"/>
            <a:ext cx="787320" cy="799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6"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8"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6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0"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71"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72"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3"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5"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76"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Julie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3" action="ppaction://hlinksldjump"/>
              </a:rPr>
              <a:t>Tybalt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4" action="ppaction://hlinksldjump"/>
              </a:rPr>
              <a:t>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really wish you were here….</a:t>
            </a:r>
            <a:endParaRPr b="0" lang="en-US" sz="1200" spc="-1" strike="noStrike">
              <a:solidFill>
                <a:srgbClr val="ffffff"/>
              </a:solidFill>
              <a:latin typeface="Arial"/>
            </a:endParaRPr>
          </a:p>
        </p:txBody>
      </p:sp>
      <p:sp>
        <p:nvSpPr>
          <p:cNvPr id="177" name="Text Box 10">
            <a:hlinkClick r:id="rId5"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8" name="Text Box 10">
            <a:hlinkClick r:id="rId6"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9"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80"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Paris</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7" action="ppaction://hlinksldjump"/>
              </a:rPr>
              <a:t>Hey girl</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bout Thursday I don’t I think it should be moved earlier,,,</a:t>
            </a:r>
            <a:endParaRPr b="0" lang="en-US" sz="1200" spc="-1" strike="noStrike">
              <a:solidFill>
                <a:srgbClr val="ffffff"/>
              </a:solidFill>
              <a:latin typeface="Arial"/>
            </a:endParaRPr>
          </a:p>
        </p:txBody>
      </p:sp>
      <p:sp>
        <p:nvSpPr>
          <p:cNvPr id="181"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TextBox 34"/>
          <p:cNvSpPr/>
          <p:nvPr/>
        </p:nvSpPr>
        <p:spPr>
          <a:xfrm>
            <a:off x="1523880" y="5181480"/>
            <a:ext cx="6096240" cy="82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Friar Lawrence</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8" action="ppaction://hlinksldjump"/>
              </a:rPr>
              <a:t>Emergency</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e plan is set and everything is ready ….</a:t>
            </a:r>
            <a:endParaRPr b="0" lang="en-US" sz="1200" spc="-1" strike="noStrike">
              <a:solidFill>
                <a:srgbClr val="ffffff"/>
              </a:solidFill>
              <a:latin typeface="Arial"/>
            </a:endParaRPr>
          </a:p>
        </p:txBody>
      </p:sp>
      <p:pic>
        <p:nvPicPr>
          <p:cNvPr id="184" name="Picture 68" descr="http://t0.gstatic.com/images?q=tbn:F3k0vO5IXN2QUM:http://alertnerd.com/blog/wp-content/uploads/2009/03/blakelively.jpg">
            <a:hlinkClick r:id="rId9"/>
          </p:cNvPr>
          <p:cNvPicPr/>
          <p:nvPr/>
        </p:nvPicPr>
        <p:blipFill>
          <a:blip r:embed="rId10"/>
          <a:stretch/>
        </p:blipFill>
        <p:spPr>
          <a:xfrm>
            <a:off x="152280" y="457200"/>
            <a:ext cx="917640" cy="933480"/>
          </a:xfrm>
          <a:prstGeom prst="rect">
            <a:avLst/>
          </a:prstGeom>
          <a:ln w="0">
            <a:noFill/>
          </a:ln>
        </p:spPr>
      </p:pic>
      <p:pic>
        <p:nvPicPr>
          <p:cNvPr id="185" name="Picture 68" descr="http://t0.gstatic.com/images?q=tbn:F3k0vO5IXN2QUM:http://alertnerd.com/blog/wp-content/uploads/2009/03/blakelively.jpg">
            <a:hlinkClick r:id="rId11"/>
          </p:cNvPr>
          <p:cNvPicPr/>
          <p:nvPr/>
        </p:nvPicPr>
        <p:blipFill>
          <a:blip r:embed="rId12"/>
          <a:stretch/>
        </p:blipFill>
        <p:spPr>
          <a:xfrm>
            <a:off x="0" y="2057400"/>
            <a:ext cx="1143000" cy="1162080"/>
          </a:xfrm>
          <a:prstGeom prst="rect">
            <a:avLst/>
          </a:prstGeom>
          <a:ln w="0">
            <a:noFill/>
          </a:ln>
        </p:spPr>
      </p:pic>
      <p:pic>
        <p:nvPicPr>
          <p:cNvPr id="186" name="Picture 61" descr="celebrity_gerard_butler-4087">
            <a:hlinkClick r:id="rId13"/>
          </p:cNvPr>
          <p:cNvPicPr/>
          <p:nvPr/>
        </p:nvPicPr>
        <p:blipFill>
          <a:blip r:embed="rId14"/>
          <a:stretch/>
        </p:blipFill>
        <p:spPr>
          <a:xfrm>
            <a:off x="304920" y="3505320"/>
            <a:ext cx="885600" cy="1295280"/>
          </a:xfrm>
          <a:prstGeom prst="rect">
            <a:avLst/>
          </a:prstGeom>
          <a:ln w="0">
            <a:noFill/>
          </a:ln>
        </p:spPr>
      </p:pic>
      <p:pic>
        <p:nvPicPr>
          <p:cNvPr id="187" name="Picture 29" descr="http://t1.gstatic.com/images?q=tbn:QtWVQVcihqoHHM:http://www.twelfth-night.info/clicknotes/romeo/friar_lawrence.jpg">
            <a:hlinkClick r:id="rId15"/>
          </p:cNvPr>
          <p:cNvPicPr/>
          <p:nvPr/>
        </p:nvPicPr>
        <p:blipFill>
          <a:blip r:embed="rId16"/>
          <a:stretch/>
        </p:blipFill>
        <p:spPr>
          <a:xfrm>
            <a:off x="152280" y="4952880"/>
            <a:ext cx="1409760" cy="17049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9"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9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91"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2"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3"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4"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6"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7"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2)</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98"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9"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00"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01" name="TextBox 24"/>
          <p:cNvSpPr/>
          <p:nvPr/>
        </p:nvSpPr>
        <p:spPr>
          <a:xfrm>
            <a:off x="1600200" y="1905120"/>
            <a:ext cx="6400800" cy="14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Tybal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really wish you wouldn’t do anything stupid and please be careful I know that you were talking about stuff going down and I am just trying to warn you that you know what happens if either side fights and causes problems we are both going to get punished even though you are strong minded and very stubborn you probably will do what you want anyways. Please just be safe and be smart!!! Use your head ! Well I will see you later cuz Love Juliet&lt;3 </a:t>
            </a:r>
            <a:endParaRPr b="0" lang="en-US" sz="1200" spc="-1" strike="noStrike">
              <a:solidFill>
                <a:srgbClr val="ffffff"/>
              </a:solidFill>
              <a:latin typeface="Arial"/>
            </a:endParaRPr>
          </a:p>
        </p:txBody>
      </p:sp>
      <p:pic>
        <p:nvPicPr>
          <p:cNvPr id="202" name="Picture 68" descr="http://t0.gstatic.com/images?q=tbn:F3k0vO5IXN2QUM:http://alertnerd.com/blog/wp-content/uploads/2009/03/blakelively.jpg">
            <a:hlinkClick r:id="rId5"/>
          </p:cNvPr>
          <p:cNvPicPr/>
          <p:nvPr/>
        </p:nvPicPr>
        <p:blipFill>
          <a:blip r:embed="rId6"/>
          <a:stretch/>
        </p:blipFill>
        <p:spPr>
          <a:xfrm>
            <a:off x="152280" y="457200"/>
            <a:ext cx="917640" cy="933480"/>
          </a:xfrm>
          <a:prstGeom prst="rect">
            <a:avLst/>
          </a:prstGeom>
          <a:ln w="0">
            <a:noFill/>
          </a:ln>
        </p:spPr>
      </p:pic>
      <p:pic>
        <p:nvPicPr>
          <p:cNvPr id="203" name="Picture 68" descr="http://t0.gstatic.com/images?q=tbn:F3k0vO5IXN2QUM:http://alertnerd.com/blog/wp-content/uploads/2009/03/blakelively.jpg">
            <a:hlinkClick r:id="rId7"/>
          </p:cNvPr>
          <p:cNvPicPr/>
          <p:nvPr/>
        </p:nvPicPr>
        <p:blipFill>
          <a:blip r:embed="rId8"/>
          <a:stretch/>
        </p:blipFill>
        <p:spPr>
          <a:xfrm>
            <a:off x="152280" y="1752480"/>
            <a:ext cx="1292400" cy="1314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6"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07"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9"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10"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11"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12"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3"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14" name="Text Box 10">
            <a:hlinkClick r:id="rId3"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5"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6"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7" name="TextBox 24"/>
          <p:cNvSpPr/>
          <p:nvPr/>
        </p:nvSpPr>
        <p:spPr>
          <a:xfrm>
            <a:off x="1600200" y="1981080"/>
            <a:ext cx="6400800" cy="164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Hey Girl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Juliet what’s cooking good looking </a:t>
            </a:r>
            <a:r>
              <a:rPr b="0" lang="en-US" sz="1200" spc="-1" strike="noStrike">
                <a:solidFill>
                  <a:srgbClr val="000000"/>
                </a:solidFill>
                <a:latin typeface="Wingdings"/>
                <a:ea typeface="Wingdings"/>
              </a:rPr>
              <a:t></a:t>
            </a:r>
            <a:r>
              <a:rPr b="0" lang="en-US" sz="1200" spc="-1" strike="noStrike">
                <a:solidFill>
                  <a:srgbClr val="000000"/>
                </a:solidFill>
                <a:latin typeface="Arial"/>
              </a:rPr>
              <a:t> I am looking forward to Thursday I hope you are too. I am glad that you said yes… but unfortunately I think that we should move the wedding earlier because I think It would be better for the both of us plus the sooner the better… is everything in order.. This wedding will be small but as long as it happens I don’t care!! Let ,me know as soon as possible because this is very important or I will talk to your father…well see ya later sweet thang!;)</a:t>
            </a:r>
            <a:endParaRPr b="0" lang="en-US" sz="1200" spc="-1" strike="noStrike">
              <a:solidFill>
                <a:srgbClr val="ffffff"/>
              </a:solidFill>
              <a:latin typeface="Arial"/>
            </a:endParaRPr>
          </a:p>
        </p:txBody>
      </p:sp>
      <p:sp>
        <p:nvSpPr>
          <p:cNvPr id="218" name="TextBox 26"/>
          <p:cNvSpPr/>
          <p:nvPr/>
        </p:nvSpPr>
        <p:spPr>
          <a:xfrm>
            <a:off x="1676520" y="380988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Hey Gir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i, don’t call me that first of all and trust me I didn’t have a choice so you can just stop talking to me because you are the only one gaining something… you might as well talk to my father because I really don’t have a choice…</a:t>
            </a:r>
            <a:endParaRPr b="0" lang="en-US" sz="1200" spc="-1" strike="noStrike">
              <a:solidFill>
                <a:srgbClr val="ffffff"/>
              </a:solidFill>
              <a:latin typeface="Arial"/>
            </a:endParaRPr>
          </a:p>
        </p:txBody>
      </p:sp>
      <p:pic>
        <p:nvPicPr>
          <p:cNvPr id="219" name="Picture 68" descr="http://t0.gstatic.com/images?q=tbn:F3k0vO5IXN2QUM:http://alertnerd.com/blog/wp-content/uploads/2009/03/blakelively.jpg">
            <a:hlinkClick r:id="rId5"/>
          </p:cNvPr>
          <p:cNvPicPr/>
          <p:nvPr/>
        </p:nvPicPr>
        <p:blipFill>
          <a:blip r:embed="rId6"/>
          <a:stretch/>
        </p:blipFill>
        <p:spPr>
          <a:xfrm>
            <a:off x="152280" y="533520"/>
            <a:ext cx="917640" cy="933480"/>
          </a:xfrm>
          <a:prstGeom prst="rect">
            <a:avLst/>
          </a:prstGeom>
          <a:ln w="0">
            <a:noFill/>
          </a:ln>
        </p:spPr>
      </p:pic>
      <p:pic>
        <p:nvPicPr>
          <p:cNvPr id="220" name="Picture 68" descr="http://t0.gstatic.com/images?q=tbn:F3k0vO5IXN2QUM:http://alertnerd.com/blog/wp-content/uploads/2009/03/blakelively.jpg">
            <a:hlinkClick r:id="rId7"/>
          </p:cNvPr>
          <p:cNvPicPr/>
          <p:nvPr/>
        </p:nvPicPr>
        <p:blipFill>
          <a:blip r:embed="rId8"/>
          <a:stretch/>
        </p:blipFill>
        <p:spPr>
          <a:xfrm>
            <a:off x="152280" y="3657600"/>
            <a:ext cx="1524240" cy="1550880"/>
          </a:xfrm>
          <a:prstGeom prst="rect">
            <a:avLst/>
          </a:prstGeom>
          <a:ln w="0">
            <a:noFill/>
          </a:ln>
        </p:spPr>
      </p:pic>
      <p:pic>
        <p:nvPicPr>
          <p:cNvPr id="221" name="Picture 61" descr="celebrity_gerard_butler-4087">
            <a:hlinkClick r:id="rId9"/>
          </p:cNvPr>
          <p:cNvPicPr/>
          <p:nvPr/>
        </p:nvPicPr>
        <p:blipFill>
          <a:blip r:embed="rId10"/>
          <a:stretch/>
        </p:blipFill>
        <p:spPr>
          <a:xfrm>
            <a:off x="228600" y="1676520"/>
            <a:ext cx="1266840" cy="1852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4"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25"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6"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28"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9" name="Rectangle 3">
            <a:hlinkClick r:id="rId2"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3" action="ppaction://hlinksldjump"/>
              </a:rPr>
              <a:t>Wall</a:t>
            </a:r>
            <a:endParaRPr b="0" lang="en-US" sz="1200" spc="-1" strike="noStrike">
              <a:solidFill>
                <a:srgbClr val="ffffff"/>
              </a:solidFill>
              <a:latin typeface="Arial"/>
            </a:endParaRPr>
          </a:p>
        </p:txBody>
      </p:sp>
      <p:sp>
        <p:nvSpPr>
          <p:cNvPr id="23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31"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32" name="Text Box 10">
            <a:hlinkClick r:id="rId4"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3"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4"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5" name="TextBox 24"/>
          <p:cNvSpPr/>
          <p:nvPr/>
        </p:nvSpPr>
        <p:spPr>
          <a:xfrm>
            <a:off x="1828800" y="1981080"/>
            <a:ext cx="64008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Emergency</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have everything in order! are you ready for everything you know your part of the plan and I need you to do your job if you want to have everything work. I will have a message sent to Romeo and everything will be set. I hope you follow everything just as I directed you! I will let you know if anything goes on before hand! Good Luck!!</a:t>
            </a:r>
            <a:endParaRPr b="0" lang="en-US" sz="1200" spc="-1" strike="noStrike">
              <a:solidFill>
                <a:srgbClr val="ffffff"/>
              </a:solidFill>
              <a:latin typeface="Arial"/>
            </a:endParaRPr>
          </a:p>
        </p:txBody>
      </p:sp>
      <p:sp>
        <p:nvSpPr>
          <p:cNvPr id="236" name="TextBox 23"/>
          <p:cNvSpPr/>
          <p:nvPr/>
        </p:nvSpPr>
        <p:spPr>
          <a:xfrm>
            <a:off x="1752480" y="449568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Emergency</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know exactly what to do.. I hope everything goes as planned because to be honest I a, very nervous about  this whole thing. I really appreciate you helping me because this is the only way that I can be happy and don’t have to live in secret.. I will do my part!!! Thank you!! I need all the luck I can get!!</a:t>
            </a:r>
            <a:endParaRPr b="0" lang="en-US" sz="1200" spc="-1" strike="noStrike">
              <a:solidFill>
                <a:srgbClr val="ffffff"/>
              </a:solidFill>
              <a:latin typeface="Arial"/>
            </a:endParaRPr>
          </a:p>
        </p:txBody>
      </p:sp>
      <p:pic>
        <p:nvPicPr>
          <p:cNvPr id="237" name="Picture 68" descr="http://t0.gstatic.com/images?q=tbn:F3k0vO5IXN2QUM:http://alertnerd.com/blog/wp-content/uploads/2009/03/blakelively.jpg">
            <a:hlinkClick r:id="rId6"/>
          </p:cNvPr>
          <p:cNvPicPr/>
          <p:nvPr/>
        </p:nvPicPr>
        <p:blipFill>
          <a:blip r:embed="rId7"/>
          <a:stretch/>
        </p:blipFill>
        <p:spPr>
          <a:xfrm>
            <a:off x="152280" y="533520"/>
            <a:ext cx="917640" cy="933480"/>
          </a:xfrm>
          <a:prstGeom prst="rect">
            <a:avLst/>
          </a:prstGeom>
          <a:ln w="0">
            <a:noFill/>
          </a:ln>
        </p:spPr>
      </p:pic>
      <p:pic>
        <p:nvPicPr>
          <p:cNvPr id="238" name="Picture 29" descr="http://t1.gstatic.com/images?q=tbn:QtWVQVcihqoHHM:http://www.twelfth-night.info/clicknotes/romeo/friar_lawrence.jpg">
            <a:hlinkClick r:id="rId8"/>
          </p:cNvPr>
          <p:cNvPicPr/>
          <p:nvPr/>
        </p:nvPicPr>
        <p:blipFill>
          <a:blip r:embed="rId9"/>
          <a:stretch/>
        </p:blipFill>
        <p:spPr>
          <a:xfrm>
            <a:off x="228600" y="2057400"/>
            <a:ext cx="1409760" cy="1704960"/>
          </a:xfrm>
          <a:prstGeom prst="rect">
            <a:avLst/>
          </a:prstGeom>
          <a:ln w="0">
            <a:noFill/>
          </a:ln>
        </p:spPr>
      </p:pic>
      <p:pic>
        <p:nvPicPr>
          <p:cNvPr id="239" name="Picture 68" descr="http://t0.gstatic.com/images?q=tbn:F3k0vO5IXN2QUM:http://alertnerd.com/blog/wp-content/uploads/2009/03/blakelively.jpg"/>
          <p:cNvPicPr/>
          <p:nvPr/>
        </p:nvPicPr>
        <p:blipFill>
          <a:blip r:embed="rId10"/>
          <a:stretch/>
        </p:blipFill>
        <p:spPr>
          <a:xfrm>
            <a:off x="152280" y="4265640"/>
            <a:ext cx="1527120" cy="1554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47</cp:lastModifiedBy>
  <dcterms:modified xsi:type="dcterms:W3CDTF">2010-05-17T15:54:23Z</dcterms:modified>
  <cp:revision>71</cp:revision>
  <dc:subject/>
  <dc:title>Profile</dc:title>
</cp:coreProperties>
</file>